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CC7-AAC7-4701-A89D-C3CE137A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0B3-CB9A-48DF-895F-C64B69D642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B2D-E477-4CD0-A108-9B63EEAE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471-1846-40D2-A19C-6F30C63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E81-A6EE-4AB9-80D7-DCBBF0E2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874-5797-47A6-8123-FBB7DF78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AE86-E946-4B53-B122-64CA7950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E9F6-6D86-409A-9BF9-58ED3DB3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B367-8F99-4D14-8341-0FABAE5A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0633-7720-49DF-9591-0C4BF9B3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7714-9F89-4BFA-B5AF-A1F472FB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53F-73D7-4CCC-908D-2BD7AEAE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B7B3-3C60-470D-986D-DE48274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EAA-A3FD-4485-BE8E-4D610DC2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FC21-EA1E-44A5-9E03-EAAC902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0D09-2579-41A4-9A74-343AA55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E892-472B-44D6-8E96-70838211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4F2-88A5-418A-811A-AE03096B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6827-1319-418D-95BB-D490EB60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152-DE90-429C-B20C-32D8A2DA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F9D-900C-47D3-BEF0-5EE7651B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EC7-925B-4FC3-9FB1-5DDE8A20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5E6-5D76-4F8D-86E6-2201B824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5EC-469A-49C0-A2F6-F3514A58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34F-60BE-4305-A3D1-1715670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505-CED2-4697-BFE6-E811151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AEB1-03EE-4018-BE23-F014F9B72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8D5D-F478-47D5-B712-66528F6794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519588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23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97180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½ Day AM Substitute TOY Inter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arm-Up: Prepare for Qui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wor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Quiz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lete Energy Story &amp; Source Assess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 and Answer Questions in BGE: Exploring Your Environment Magazine (students may keep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NE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i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NE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3D3E02A1-E8AF-4DA1-89AF-31F2DAA56C51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Thursday, July 30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Identify, describe, and provide examples of several different forms of energy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Key Question 18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What is energy and how is it passed from one thing to another?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440" y="1559520"/>
            <a:ext cx="8686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Times New Roman"/>
              </a:rPr>
              <a:t>NONE!!!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01:00Z</dcterms:created>
  <dc:creator>CCPS</dc:creator>
  <dc:description/>
  <dc:language>en-US</dc:language>
  <cp:lastModifiedBy>CCPS</cp:lastModifiedBy>
  <dcterms:modified xsi:type="dcterms:W3CDTF">2010-04-22T19:02:28Z</dcterms:modified>
  <cp:revision>2</cp:revision>
  <dc:subject/>
  <dc:title>Slide 1</dc:title>
</cp:coreProperties>
</file>